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0442-14CB-4E9E-A745-DE8683D3F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5B4A-55BB-450D-B868-B88A2D172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0F61-6DC4-490E-AD94-026FA714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6C1A-0C8A-46E4-B318-3C1CA7D8E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rsharma.ca/obesity-did-weight-bias-play-a-role-in-access-to-h1n1-vaccin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8379-F623-4B23-92A4-BBCEFE4EF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bs.org/wgbh/aso/databank/entries/dm79s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n interesting article as well…about WH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efforts to eliminate smallp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6AC-4AAE-4ECB-A590-FB7B8BF29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durham.ca/health.asp?nr=/departments/health/cdcp/routineSchedul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74AD-DCAD-4D67-8123-508759B2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7CBA-B28F-454C-90C0-FAE25800F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www.allrmc.com/blog/reverse-mortgage-pros-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pworthy.com/16-years-ago-a-doctor-published-a-study-it-was-completely-made-up-and-it-made-us-all-sicker?g=2&amp;c=ufb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0920-4E39-4CF6-A771-BEECFF9E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32EB-024A-4524-96F7-A6746C8C2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67E4-C5CD-401C-A9F9-EF5F790A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gugenetics.pbworks.com/w/page/38371765/Gene%20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3C78-60D7-4B4C-9F6B-4E0A1CC2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E4AE-572A-4EF5-87A4-0F74FFDB4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B22C-2E4A-4EC7-AC7F-6FFF5FEE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exams4u.com/2013/03/viroids.html#.VBLk6Bz_A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fectious pieces of RNA without capsid; responsible for some plant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03FB-96ED-475F-AC2F-E7748526D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awelmazur.org/blog/?tag=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normally-shaped infectious proteins; cause rare diseases in mammals; consumption of infected animals causes prions to enter blood &amp; travel to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1CA3-11D2-4C1E-AEE7-F298AEC7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FC14-DACC-4F2A-8D68-6354B979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vc.dfci.harvard.edu/hpv/HTML/classific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7990-0E68-4F8D-AA5E-15838C673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lv.ch/Virologytutorials/Classific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7529-127E-4CDC-BB37-E9DEEA8C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685-9C47-4E84-8BCF-3BCBF295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2 bacteriophage from: http://www.visualphotos.com/image/1x3745974/t2_bacteriophage_color_enhanced_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0E56-8F23-4892-AA22-3D469C50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ism.gatech.edu/~gh19/b1510/viru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1959-B7D3-4083-A57B-3745BFBB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 C links to liv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CD4-FBD7-4E52-A9B2-E2FCD051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3C0D-247A-4869-B747-5A0B3BCF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76D-3BF8-4F3B-BDEB-F2D39197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6F4-ABAB-4E10-B8F3-B5ED9D7A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3B6-222A-4144-94BC-EFD558C5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FB6-1F6D-46CB-9B74-7ABD7E42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90D-A214-4420-87DE-7E39DE57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2FD-3C44-4070-A1B2-680D0DCA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251-D785-4793-B1C5-0BE394F3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3C3-CB8A-479A-B374-644586BA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4A6-BBCC-418F-BB67-27F37752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A3F-A5AF-48E0-9717-B111030F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6543-B419-46F3-A604-C58280782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sYSyuuLk5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 (2.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c vs.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vs. widespread (usually global) geographic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seen this fil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4sYSyuuLk5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ened virus or parts of virus trigger bod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against future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harma-obesity-vaccination-150x150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d479spox01w001"/>
          <p:cNvPicPr/>
          <p:nvPr/>
        </p:nvPicPr>
        <p:blipFill>
          <a:blip r:embed="rId1"/>
          <a:stretch/>
        </p:blipFill>
        <p:spPr>
          <a:xfrm>
            <a:off x="1344600" y="1981080"/>
            <a:ext cx="6453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zation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m_sch"/>
          <p:cNvPicPr/>
          <p:nvPr/>
        </p:nvPicPr>
        <p:blipFill>
          <a:blip r:embed="rId1"/>
          <a:stretch/>
        </p:blipFill>
        <p:spPr>
          <a:xfrm>
            <a:off x="1065240" y="1600200"/>
            <a:ext cx="7089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4" descr="Naomi Tyson Immunization Record.jpeg"/>
          <p:cNvPicPr/>
          <p:nvPr/>
        </p:nvPicPr>
        <p:blipFill>
          <a:blip r:embed="rId1"/>
          <a:srcRect l="0" t="-13664" r="0" b="-13664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- or Anti-Vacc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reasons for being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vacci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3" descr="vaccines-and-autism-89a95934a2e5e6433d229e2f44ee4b8f.png.jpeg"/>
          <p:cNvPicPr/>
          <p:nvPr/>
        </p:nvPicPr>
        <p:blipFill>
          <a:blip r:embed="rId1"/>
          <a:srcRect l="-215256" t="0" r="-215256" b="0"/>
          <a:stretch/>
        </p:blipFill>
        <p:spPr>
          <a:xfrm>
            <a:off x="250920" y="333360"/>
            <a:ext cx="8640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viruses be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ow it works-gene therapy"/>
          <p:cNvPicPr/>
          <p:nvPr/>
        </p:nvPicPr>
        <p:blipFill>
          <a:blip r:embed="rId1"/>
          <a:stretch/>
        </p:blipFill>
        <p:spPr>
          <a:xfrm>
            <a:off x="1790640" y="1981080"/>
            <a:ext cx="556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isease-causing nonliving partic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Living Org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(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viroid_thumb[1]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171461"/>
          <p:cNvPicPr/>
          <p:nvPr/>
        </p:nvPicPr>
        <p:blipFill>
          <a:blip r:embed="rId1"/>
          <a:stretch/>
        </p:blipFill>
        <p:spPr>
          <a:xfrm>
            <a:off x="1571760" y="160020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not shared by Vir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ganization (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(RNA viruses mu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y? (they interact with host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2" descr="image002.gif"/>
          <p:cNvPicPr/>
          <p:nvPr/>
        </p:nvPicPr>
        <p:blipFill>
          <a:blip r:embed="rId1"/>
          <a:srcRect l="-15724" t="0" r="-1572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lassificationtotal"/>
          <p:cNvPicPr/>
          <p:nvPr/>
        </p:nvPicPr>
        <p:blipFill>
          <a:blip r:embed="rId1"/>
          <a:srcRect l="13281" t="0" r="13281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048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material (DNA or 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iruses are also surrounded by an enve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ntibac_pix_virus_types"/>
          <p:cNvPicPr/>
          <p:nvPr/>
        </p:nvPicPr>
        <p:blipFill>
          <a:blip r:embed="rId1"/>
          <a:stretch/>
        </p:blipFill>
        <p:spPr>
          <a:xfrm>
            <a:off x="3809880" y="2284560"/>
            <a:ext cx="49532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t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very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an infect many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cteriophag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fect bacteria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t2_bacteriophage_color_enhanced_transmission_electron_micrograph_tem_of_t2_bacteriophages_invad_BA2174"/>
          <p:cNvPicPr/>
          <p:nvPr/>
        </p:nvPicPr>
        <p:blipFill>
          <a:blip r:embed="rId1"/>
          <a:stretch/>
        </p:blipFill>
        <p:spPr>
          <a:xfrm>
            <a:off x="4267080" y="2327400"/>
            <a:ext cx="4419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tic cycle (ca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sogenic cyc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ysoge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ormanc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8lytic"/>
          <p:cNvPicPr/>
          <p:nvPr/>
        </p:nvPicPr>
        <p:blipFill>
          <a:blip r:embed="rId1"/>
          <a:stretch/>
        </p:blipFill>
        <p:spPr>
          <a:xfrm>
            <a:off x="2152800" y="3124080"/>
            <a:ext cx="491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640px-Viral_infections_and_involved_species"/>
          <p:cNvPicPr/>
          <p:nvPr/>
        </p:nvPicPr>
        <p:blipFill>
          <a:blip r:embed="rId1"/>
          <a:stretch/>
        </p:blipFill>
        <p:spPr>
          <a:xfrm>
            <a:off x="1303200" y="304920"/>
            <a:ext cx="6535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5:45:36Z</dcterms:created>
  <dc:creator>rubina khan</dc:creator>
  <dc:description/>
  <dc:language>en-US</dc:language>
  <cp:lastModifiedBy>rubina khan</cp:lastModifiedBy>
  <dcterms:modified xsi:type="dcterms:W3CDTF">2018-04-03T19:31:04Z</dcterms:modified>
  <cp:revision>91</cp:revision>
  <dc:subject/>
  <dc:title>Viruses</dc:title>
</cp:coreProperties>
</file>